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BED7-B6AC-4E75-AEDB-EA3C2AA56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9B4B-5D38-4B6C-A1F2-4BA9B75FF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81A0-1999-4AB7-ACFD-A261F464D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D36E-F172-44D1-B7D1-AEA79B495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EC90-4F44-4D36-AFB1-0B0438A10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5064-163C-4FB4-A9F4-9132D264C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CDB3-13AB-4025-9C76-C11B1A745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2E87-67DA-44A5-B266-9FD26846E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F584-5DE1-4062-AA7B-163CF3596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8E3C-AEDF-4A7F-A0C2-21CF4DB6B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4411-366B-4C37-8152-34A8F390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39E7-18D2-405F-B864-297979EC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0936D-AD45-4A10-97E4-6B4A9A864309}" type="slidenum"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238400" y="1946160"/>
            <a:ext cx="7572240" cy="906480"/>
          </a:xfrm>
          <a:prstGeom prst="rect">
            <a:avLst/>
          </a:prstGeom>
          <a:solidFill>
            <a:srgbClr val="ccec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1" lang="en-US" sz="2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1" lang="ko-KR" sz="2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품질 정보전달 체계 전산화 제외 요청 검토 </a:t>
            </a:r>
            <a:endParaRPr b="1" lang="en-US" sz="2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2" name="AutoShape 4"/>
          <p:cNvSpPr/>
          <p:nvPr/>
        </p:nvSpPr>
        <p:spPr>
          <a:xfrm>
            <a:off x="3733920" y="5302080"/>
            <a:ext cx="2438280" cy="576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㈜</a:t>
            </a:r>
            <a:r>
              <a:rPr b="1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원정공</a:t>
            </a:r>
            <a:endParaRPr b="1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3733920" y="4437720"/>
            <a:ext cx="2444760" cy="509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.  6.  13.</a:t>
            </a:r>
            <a:endParaRPr b="1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4" name="Line 6"/>
          <p:cNvSpPr/>
          <p:nvPr/>
        </p:nvSpPr>
        <p:spPr>
          <a:xfrm>
            <a:off x="0" y="685800"/>
            <a:ext cx="995220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pic>
        <p:nvPicPr>
          <p:cNvPr id="45" name="Picture 181" descr="로고"/>
          <p:cNvPicPr/>
          <p:nvPr/>
        </p:nvPicPr>
        <p:blipFill>
          <a:blip r:embed="rId1"/>
          <a:stretch/>
        </p:blipFill>
        <p:spPr>
          <a:xfrm>
            <a:off x="8310600" y="304920"/>
            <a:ext cx="144144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0"/>
          <p:cNvSpPr/>
          <p:nvPr/>
        </p:nvSpPr>
        <p:spPr>
          <a:xfrm>
            <a:off x="344520" y="773280"/>
            <a:ext cx="9432720" cy="47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검토 목적</a:t>
            </a:r>
            <a:endParaRPr b="1" lang="en-US" sz="1400" spc="-1" strike="noStrike">
              <a:solidFill>
                <a:srgbClr val="000000"/>
              </a:solidFill>
              <a:latin typeface="HY헤드라인M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HKMC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협력사 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품질 정보전달 체계 전산화 사업과 관련하여 향후 추진 방향을 설정키 위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검토 결과 </a:t>
            </a:r>
            <a:endParaRPr b="1" lang="en-US" sz="1400" spc="-1" strike="noStrike">
              <a:solidFill>
                <a:srgbClr val="000000"/>
              </a:solidFill>
              <a:latin typeface="HY헤드라인M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)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부문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endParaRPr b="1" lang="en-US" sz="1400" spc="-1" strike="noStrike">
              <a:solidFill>
                <a:srgbClr val="000000"/>
              </a:solidFill>
              <a:latin typeface="HY헤드라인M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▷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사는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HKMC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신규 차종개발 비대상 업체임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)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품질부문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endParaRPr b="1" lang="en-US" sz="1400" spc="-1" strike="noStrike">
              <a:solidFill>
                <a:srgbClr val="000000"/>
              </a:solidFill>
              <a:latin typeface="HY헤드라인M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▷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품질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 STAR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S1000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수인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QS, VDS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대상 업체로 품질 정보전달체계 전산화를 구축하더라도 효과 미비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▷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형 기계식 연료분사장치가 적용되는 디젤엔진으로 배기 미규제 또는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EURO1/2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용 지역인 동남아 및 아프리카 지역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출차종인 관계로 필드 불량 피드백이 완전치 않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료 및 고객 관리부실에 의한 불량이 많으므로 전산화 효과 미비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▷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용 엔진공장의 엔진 조립 시 인젝션펌프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/No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산화 미적용으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품질정보전달체계 전산화 효과 미비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원정공 인젝션 펌프는 당사 조립 투입 기준으로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원 바코드 제품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/No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/No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레이져 마킹 실시 및 자체 관리 중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결론 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endParaRPr b="1" lang="en-US" sz="1400" spc="-1" strike="noStrike">
              <a:solidFill>
                <a:srgbClr val="000000"/>
              </a:solidFill>
              <a:latin typeface="HY헤드라인M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투자 대비 효과가 미미할 것으로 판단되므로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“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품질 정보전달 체계 전산화 대상 제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”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요청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품질 정보전달 체계 전산화 제외 불가 시 영업이익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억 적자 및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3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억 적자와 당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4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도에도 </a:t>
            </a: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규모 영업적자가 예상되는 등 경영현황 악화에 의한 투자 여력 부족으로 한시적 적용 유예를 요청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7" name="Rectangle 41"/>
          <p:cNvSpPr/>
          <p:nvPr/>
        </p:nvSpPr>
        <p:spPr>
          <a:xfrm>
            <a:off x="123840" y="114480"/>
            <a:ext cx="6532560" cy="482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헤드라인M"/>
              </a:rPr>
              <a:t>▣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HKMC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품질 정보전달 체계 전산화 검토 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8" name="Line 44"/>
          <p:cNvSpPr/>
          <p:nvPr/>
        </p:nvSpPr>
        <p:spPr>
          <a:xfrm>
            <a:off x="0" y="685800"/>
            <a:ext cx="995220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pic>
        <p:nvPicPr>
          <p:cNvPr id="49" name="Picture 181" descr="로고"/>
          <p:cNvPicPr/>
          <p:nvPr/>
        </p:nvPicPr>
        <p:blipFill>
          <a:blip r:embed="rId1"/>
          <a:stretch/>
        </p:blipFill>
        <p:spPr>
          <a:xfrm>
            <a:off x="8310600" y="304920"/>
            <a:ext cx="144144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07:50:38Z</dcterms:created>
  <dc:creator>HMC</dc:creator>
  <dc:description/>
  <dc:language>en-US</dc:language>
  <cp:lastModifiedBy>R Rhyu</cp:lastModifiedBy>
  <dcterms:modified xsi:type="dcterms:W3CDTF">2014-06-13T07:35:21Z</dcterms:modified>
  <cp:revision>354</cp:revision>
  <dc:subject/>
  <dc:title>슬라이드 1</dc:title>
</cp:coreProperties>
</file>